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BB6-241A-4D6F-A441-56914DF5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DE6-B25C-4779-8405-EB47048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3CE-D9D5-415A-B48A-F1FB631B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C40-D240-467A-B6E1-90D22D35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A1B-903A-4C57-A56E-77D77677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327-67A4-49BE-9725-CA4CFE01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645-E0B7-4475-8E9C-37F9916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8F2-2EE2-48EA-982F-E5DD92D9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C87-6EBF-499B-9002-F754E135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EED-2F77-47E5-B78E-89A90E3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FEC-99B0-4C63-A001-A342D7F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A09-9090-45D5-B547-F4C1F27A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3E71-1EDC-4FF1-82E3-1C483542A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ortal.saschina.org/" TargetMode="External"/><Relationship Id="rId2" Type="http://schemas.openxmlformats.org/officeDocument/2006/relationships/hyperlink" Target="http://portal.saschina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www.wikispaces.com/" TargetMode="External"/><Relationship Id="rId3" Type="http://schemas.openxmlformats.org/officeDocument/2006/relationships/image" Target="../media/image4.png"/><Relationship Id="rId4" Type="http://schemas.openxmlformats.org/officeDocument/2006/relationships/hyperlink" Target="mailto:username@sasstudent.org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62120" y="4572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Grade Tech Toolbox Walk-th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90720" y="15238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 web browser open and a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ortal.saschina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Picture 4.png"/>
          <p:cNvPicPr/>
          <p:nvPr/>
        </p:nvPicPr>
        <p:blipFill>
          <a:blip r:embed="rId3"/>
          <a:srcRect l="49463" t="0" r="0" b="0"/>
          <a:stretch/>
        </p:blipFill>
        <p:spPr>
          <a:xfrm>
            <a:off x="2819520" y="1981080"/>
            <a:ext cx="2514600" cy="2043360"/>
          </a:xfrm>
          <a:prstGeom prst="rect">
            <a:avLst/>
          </a:prstGeom>
          <a:ln w="0">
            <a:noFill/>
          </a:ln>
        </p:spPr>
      </p:pic>
      <p:cxnSp>
        <p:nvCxnSpPr>
          <p:cNvPr id="44" name="Straight Arrow Connector 10"/>
          <p:cNvCxnSpPr/>
          <p:nvPr/>
        </p:nvCxnSpPr>
        <p:spPr>
          <a:xfrm>
            <a:off x="2362320" y="2057040"/>
            <a:ext cx="1829520" cy="106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" name=""/>
          <p:cNvSpPr/>
          <p:nvPr/>
        </p:nvSpPr>
        <p:spPr>
          <a:xfrm>
            <a:off x="0" y="5562720"/>
            <a:ext cx="9144000" cy="9144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066680" y="4267080"/>
            <a:ext cx="72392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Use the list and tell students thei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user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 which will b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irst name/px/2014     eg. jackiepx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 Passwords are all set to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hangha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se accounts are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宋体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yet able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end or receive email. You need to sign the A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1600200"/>
            <a:ext cx="502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f students are not prompted to change their password, they should 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b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Pass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s should be longer th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racters and contain a numb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Once they do this, they can log out and return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clicking on the browser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Your student email address DOES NOT end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gmail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685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ging Your Email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775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. It is username@sasstude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914400" y="685800"/>
            <a:ext cx="7467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e Your Moodle Ac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Return to the Portal at http://portal.saschina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Click o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od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ab at the t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On the right hand side of the screen underne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log-in, click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e new accou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Follow the prompts on the screen. Be sure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rname that is used for your Gmail account. Keep all usernames and passwords the sa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Picture 1.png"/>
          <p:cNvPicPr/>
          <p:nvPr/>
        </p:nvPicPr>
        <p:blipFill>
          <a:blip r:embed="rId1"/>
          <a:stretch/>
        </p:blipFill>
        <p:spPr>
          <a:xfrm>
            <a:off x="990720" y="1981080"/>
            <a:ext cx="4572000" cy="99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ture 2.png"/>
          <p:cNvPicPr/>
          <p:nvPr/>
        </p:nvPicPr>
        <p:blipFill>
          <a:blip r:embed="rId2"/>
          <a:stretch/>
        </p:blipFill>
        <p:spPr>
          <a:xfrm>
            <a:off x="5943600" y="3124080"/>
            <a:ext cx="1444680" cy="1828800"/>
          </a:xfrm>
          <a:prstGeom prst="rect">
            <a:avLst/>
          </a:prstGeom>
          <a:ln w="0">
            <a:noFill/>
          </a:ln>
        </p:spPr>
      </p:pic>
      <p:cxnSp>
        <p:nvCxnSpPr>
          <p:cNvPr id="53" name="Straight Arrow Connector 7"/>
          <p:cNvCxnSpPr/>
          <p:nvPr/>
        </p:nvCxnSpPr>
        <p:spPr>
          <a:xfrm>
            <a:off x="4495680" y="3962520"/>
            <a:ext cx="1448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"/>
          <p:cNvSpPr/>
          <p:nvPr/>
        </p:nvSpPr>
        <p:spPr>
          <a:xfrm>
            <a:off x="990720" y="5943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Do NOT go and check your email for confirmation of your accou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04960" y="175248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762120" y="762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reate a Wikispaces Ac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838080" y="16002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browser address window, typ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wikispace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Picture 7.png"/>
          <p:cNvPicPr/>
          <p:nvPr/>
        </p:nvPicPr>
        <p:blipFill>
          <a:blip r:embed="rId3"/>
          <a:stretch/>
        </p:blipFill>
        <p:spPr>
          <a:xfrm>
            <a:off x="5029200" y="2057400"/>
            <a:ext cx="2475000" cy="2629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914400" y="2743200"/>
            <a:ext cx="3809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Enter your new accoun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rnam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ssword that you used for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ent email accou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jackiepx201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your new email address. It will 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username@sasstudent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Do NOT go and check your e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confirmation of your accou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410080" y="68580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SKIP THIS PART FOR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7"/>
          <p:cNvCxnSpPr/>
          <p:nvPr/>
        </p:nvCxnSpPr>
        <p:spPr>
          <a:xfrm flipH="1">
            <a:off x="6019920" y="2057040"/>
            <a:ext cx="70524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3520"/>
            <a:ext cx="9144000" cy="9144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85800"/>
            <a:ext cx="792468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cklist for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ged in successfully to my student email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nged my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d a Moodle account with my user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d a Wikispaces accou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th the same user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38680" y="441972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67280" y="209520"/>
            <a:ext cx="27813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03:59:14Z</dcterms:created>
  <dc:creator>User</dc:creator>
  <dc:description/>
  <dc:language>en-US</dc:language>
  <cp:lastModifiedBy>SAS</cp:lastModifiedBy>
  <dcterms:modified xsi:type="dcterms:W3CDTF">2008-08-25T07:31:16Z</dcterms:modified>
  <cp:revision>24</cp:revision>
  <dc:subject/>
  <dc:title>Slide 1</dc:title>
</cp:coreProperties>
</file>